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D5D-8B58-4F0C-8F76-7AC478F6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F89-AF14-47D5-A8BC-68894B9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6C8-83FE-4F69-ADA9-3CDBB5A5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4B2-734C-4A83-8528-BB2D9A6F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9A4-24DA-48E9-A6AE-6CFEC6E9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FF0-6801-4F7A-B0D0-DBC21F2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3B8B-C48E-477E-88E5-CC10B321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D499-BAA6-47F2-9161-40C598C2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E173-3AD9-49E2-9EAC-6F5A3C4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542-0084-4BB0-8973-F78646C0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73D-28C9-4838-91D5-C0972E3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EE7-D3C9-4CBC-9EDE-3FABD5C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785C-E097-4801-9E1D-9D310B6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D90A-9082-4732-9AF3-9DAE6A8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5D41-5D47-471D-A9B2-02D5F81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055E-9D8F-4353-A229-9B0999C5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B784-84FC-468D-B552-61FCC542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FB2A-A6AB-48F5-95D2-955722B5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8346-502B-4E7A-A97E-7CBCEFE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1AC2-C418-4D15-A69E-03726E8D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6383-373B-4A64-B5F7-7EF4B41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9833-1333-41E9-846F-FC81ADA8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286-66A0-4AA0-8F17-6A54A022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CE23-EB27-4B34-8519-BA17A04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7F61-04E5-492C-86FB-0D7ADAA4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217C-722E-48EF-B45D-9196E83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67A7-3289-43FF-BA43-84B3955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9C6C-65A2-445A-8262-FCF39785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A7A7-8BA2-48BC-9874-9C033CAC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3F28-FFC3-411B-979F-388EAD3D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34BA-1AC8-4D0D-853E-84F634BF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7CA1-7008-4B19-9FF3-0301686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CA204-D1C7-4147-8DDB-ABA55650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AA3-CCB9-4D3E-982D-84422D3C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0D454-5C7C-4542-B830-27B63CB3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01ECC-D9B3-4978-A614-3DADF285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80F7B-2DE1-4EC5-8601-DD5CB145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D6F0-ED50-4A8D-AD76-0CBDB4D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0183-EE02-42CC-9083-4E63F972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B002-2EE8-4BEA-8C8E-B7313B4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7480-5A35-4778-8474-6A7E9B2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DD24-1057-4CF3-B442-A18CBA71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4E4B-87A1-4778-88EA-39E8D6B5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03E-76F5-47BF-8CA4-BE107E3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153-73EE-49D7-B29F-FC8D7ECE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621-AD88-4A73-8F95-E9A4A82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7D5-2A3C-4D80-9F82-3CB4C9A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692-CC1F-4D71-A1E2-6436A4FA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006A-F910-42AF-8FB6-952F80CD7D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14E3-5C96-4243-8100-48EED76E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3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6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AD9C-C2DF-435D-ACA9-E2B5905E00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1C6-4A36-44F2-9B00-170544A88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nplo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471840" y="3092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5965560" y="5950080"/>
            <a:ext cx="28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mple Pres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249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End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Winplot is a easy to use program written by Richard Parris. It can graph in two-dimensional and in three-dimensional. It is totally fre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et Star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3456000" cy="1325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2430360" cy="388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7704360" cy="587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aph an Equ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3672000" cy="3961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20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oom the Wind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835280" y="1960560"/>
            <a:ext cx="6838920" cy="489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977080" cy="5535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3"/>
          <a:stretch/>
        </p:blipFill>
        <p:spPr>
          <a:xfrm>
            <a:off x="2195640" y="2127240"/>
            <a:ext cx="4824360" cy="4730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324000" y="1530360"/>
            <a:ext cx="8820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aph Derivativ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137440" cy="539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未命名"/>
          <p:cNvPicPr/>
          <p:nvPr/>
        </p:nvPicPr>
        <p:blipFill>
          <a:blip r:embed="rId3"/>
          <a:stretch/>
        </p:blipFill>
        <p:spPr>
          <a:xfrm>
            <a:off x="395280" y="1125360"/>
            <a:ext cx="8137440" cy="5399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4"/>
          <a:stretch/>
        </p:blipFill>
        <p:spPr>
          <a:xfrm>
            <a:off x="395280" y="1125360"/>
            <a:ext cx="8209080" cy="539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5"/>
          <a:stretch/>
        </p:blipFill>
        <p:spPr>
          <a:xfrm>
            <a:off x="395280" y="1125360"/>
            <a:ext cx="820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view equation and change col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Picture 12" descr="1"/>
          <p:cNvPicPr/>
          <p:nvPr/>
        </p:nvPicPr>
        <p:blipFill>
          <a:blip r:embed="rId1"/>
          <a:stretch/>
        </p:blipFill>
        <p:spPr>
          <a:xfrm>
            <a:off x="971640" y="1268280"/>
            <a:ext cx="7115040" cy="4343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2"/>
          <p:cNvPicPr/>
          <p:nvPr/>
        </p:nvPicPr>
        <p:blipFill>
          <a:blip r:embed="rId2"/>
          <a:stretch/>
        </p:blipFill>
        <p:spPr>
          <a:xfrm>
            <a:off x="971640" y="1268280"/>
            <a:ext cx="7115040" cy="4343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3"/>
          <p:cNvPicPr/>
          <p:nvPr/>
        </p:nvPicPr>
        <p:blipFill>
          <a:blip r:embed="rId3"/>
          <a:stretch/>
        </p:blipFill>
        <p:spPr>
          <a:xfrm>
            <a:off x="971640" y="1268280"/>
            <a:ext cx="7095960" cy="4334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5"/>
          <p:cNvPicPr/>
          <p:nvPr/>
        </p:nvPicPr>
        <p:blipFill>
          <a:blip r:embed="rId4"/>
          <a:stretch/>
        </p:blipFill>
        <p:spPr>
          <a:xfrm>
            <a:off x="900000" y="1268280"/>
            <a:ext cx="7201080" cy="4383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6" descr="7"/>
          <p:cNvPicPr/>
          <p:nvPr/>
        </p:nvPicPr>
        <p:blipFill>
          <a:blip r:embed="rId5"/>
          <a:stretch/>
        </p:blipFill>
        <p:spPr>
          <a:xfrm>
            <a:off x="900000" y="1268280"/>
            <a:ext cx="7201080" cy="4383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7" descr="4"/>
          <p:cNvPicPr/>
          <p:nvPr/>
        </p:nvPicPr>
        <p:blipFill>
          <a:blip r:embed="rId6"/>
          <a:stretch/>
        </p:blipFill>
        <p:spPr>
          <a:xfrm>
            <a:off x="971640" y="1268280"/>
            <a:ext cx="7129440" cy="4391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"/>
          <p:cNvPicPr/>
          <p:nvPr/>
        </p:nvPicPr>
        <p:blipFill>
          <a:blip r:embed="rId7"/>
          <a:stretch/>
        </p:blipFill>
        <p:spPr>
          <a:xfrm>
            <a:off x="900000" y="1268280"/>
            <a:ext cx="7128000" cy="4392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0" descr="9"/>
          <p:cNvPicPr/>
          <p:nvPr/>
        </p:nvPicPr>
        <p:blipFill>
          <a:blip r:embed="rId8"/>
          <a:stretch/>
        </p:blipFill>
        <p:spPr>
          <a:xfrm>
            <a:off x="900000" y="1268280"/>
            <a:ext cx="7201080" cy="4392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"/>
          <p:cNvPicPr/>
          <p:nvPr/>
        </p:nvPicPr>
        <p:blipFill>
          <a:blip r:embed="rId9"/>
          <a:stretch/>
        </p:blipFill>
        <p:spPr>
          <a:xfrm>
            <a:off x="900000" y="1197000"/>
            <a:ext cx="720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s Extrema and inter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89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048720" cy="4896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3"/>
          <a:stretch/>
        </p:blipFill>
        <p:spPr>
          <a:xfrm>
            <a:off x="1547640" y="1341360"/>
            <a:ext cx="5977080" cy="489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4"/>
          <a:stretch/>
        </p:blipFill>
        <p:spPr>
          <a:xfrm>
            <a:off x="1547640" y="1341360"/>
            <a:ext cx="5977080" cy="489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"/>
          <p:cNvPicPr/>
          <p:nvPr/>
        </p:nvPicPr>
        <p:blipFill>
          <a:blip r:embed="rId5"/>
          <a:stretch/>
        </p:blipFill>
        <p:spPr>
          <a:xfrm>
            <a:off x="1547640" y="1341360"/>
            <a:ext cx="5977080" cy="482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"/>
          <p:cNvPicPr/>
          <p:nvPr/>
        </p:nvPicPr>
        <p:blipFill>
          <a:blip r:embed="rId6"/>
          <a:stretch/>
        </p:blipFill>
        <p:spPr>
          <a:xfrm>
            <a:off x="1547640" y="1341360"/>
            <a:ext cx="5977080" cy="489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7"/>
          <a:stretch/>
        </p:blipFill>
        <p:spPr>
          <a:xfrm>
            <a:off x="684360" y="1268280"/>
            <a:ext cx="7488000" cy="4967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/>
          <p:cNvPicPr/>
          <p:nvPr/>
        </p:nvPicPr>
        <p:blipFill>
          <a:blip r:embed="rId8"/>
          <a:stretch/>
        </p:blipFill>
        <p:spPr>
          <a:xfrm>
            <a:off x="684360" y="1268280"/>
            <a:ext cx="7488000" cy="4897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"/>
          <p:cNvPicPr/>
          <p:nvPr/>
        </p:nvPicPr>
        <p:blipFill>
          <a:blip r:embed="rId9"/>
          <a:stretch/>
        </p:blipFill>
        <p:spPr>
          <a:xfrm>
            <a:off x="755640" y="1268280"/>
            <a:ext cx="7416720" cy="496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"/>
          <p:cNvPicPr/>
          <p:nvPr/>
        </p:nvPicPr>
        <p:blipFill>
          <a:blip r:embed="rId10"/>
          <a:stretch/>
        </p:blipFill>
        <p:spPr>
          <a:xfrm>
            <a:off x="684360" y="1268280"/>
            <a:ext cx="74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4819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5977080" cy="511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6985080" cy="5183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4"/>
          <a:stretch/>
        </p:blipFill>
        <p:spPr>
          <a:xfrm>
            <a:off x="1332000" y="1341360"/>
            <a:ext cx="7057800" cy="4896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5"/>
          <a:stretch/>
        </p:blipFill>
        <p:spPr>
          <a:xfrm>
            <a:off x="1403280" y="1125360"/>
            <a:ext cx="6985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21:19:11Z</dcterms:created>
  <dc:creator>OEM</dc:creator>
  <dc:description/>
  <dc:language>en-US</dc:language>
  <cp:lastModifiedBy>Administrator</cp:lastModifiedBy>
  <dcterms:modified xsi:type="dcterms:W3CDTF">2011-06-24T03:25:25Z</dcterms:modified>
  <cp:revision>18</cp:revision>
  <dc:subject/>
  <dc:title>  Introduction </dc:title>
</cp:coreProperties>
</file>